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966-B4E5-4942-894E-4B96D1F3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C95-F38F-40BC-9743-897754B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905-7477-4117-B1E0-E37D0B14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55F-E0E3-4F72-8A68-101FB90B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D56-1D60-4777-9FD0-6760BFC8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4F5-A45D-481E-847C-43C8D94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D8E-41B6-438A-A644-7738CD60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B9C-ECB7-442F-B542-3B4C8AAE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DAC-CABB-4A27-B6E3-3C03915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05F-B89E-40B1-8A67-0B63B944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0DE-3353-40B6-A9F2-061113F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C52-D520-4A50-9B43-EB7FA5A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F42-0087-42A5-BD4E-6547EEE16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Percents to Fractions in Lowest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 means “out of a hundr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ercent can be written as a fraction with 100 as the denominat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35 % can be written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638680" y="2666880"/>
                <a:ext cx="906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295280" y="533412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not written in lowest terms since there is a number that will divide into both eve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1295280"/>
            <a:ext cx="38088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7440" y="685800"/>
            <a:ext cx="4371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ust memorize the factors of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, 4, 5, 10, 20, 25 and 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362320" y="2362320"/>
                <a:ext cx="906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80880" y="4876920"/>
            <a:ext cx="81536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factor of 100 that will divide evenly into 35 is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096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the numerator and denominator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52680" y="2438280"/>
                <a:ext cx="6908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352680" y="3124080"/>
                <a:ext cx="6908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248520" y="1397160"/>
            <a:ext cx="13716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397160"/>
            <a:ext cx="990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724280" y="2362320"/>
                <a:ext cx="1036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248520" y="2666880"/>
            <a:ext cx="19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now in lowes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ry thi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4680" y="1752480"/>
            <a:ext cx="151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9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81280" y="1371600"/>
                <a:ext cx="121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99600" y="1981080"/>
            <a:ext cx="4243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of 100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, 4, 5, 10, 20, 25 and 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053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is not even, so 2 or 4 will not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 or 5 for 5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 for ten or twenty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0, 25, 50 or 75 for 25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50 or 00 for 50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 of these conditions apply so the fraction will not re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7640" y="5715000"/>
            <a:ext cx="70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action is in lowest te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2:13:44Z</dcterms:created>
  <dc:creator>admin</dc:creator>
  <dc:description/>
  <dc:language>en-US</dc:language>
  <cp:lastModifiedBy>admin</cp:lastModifiedBy>
  <dcterms:modified xsi:type="dcterms:W3CDTF">2007-12-12T22:39:32Z</dcterms:modified>
  <cp:revision>2</cp:revision>
  <dc:subject/>
  <dc:title>Converting Percents to Fractions in Lowest Terms</dc:title>
</cp:coreProperties>
</file>